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A89-5C42-46BB-A52F-415D661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FD3-FDD1-4D1F-A705-C7A2279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8873D-6C57-496D-8CAF-0BE20E4C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40EB3-AF87-4F8D-A5C6-4B0FB4C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F7B52-3AC0-436C-B2D1-84552F0F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3C4D24-230E-40A0-81BC-B3DA351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365C0-9B2A-429E-9E95-FA103A4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BC443-C4B2-4ACB-8F64-5C6290D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DD6184-3668-4C0D-AADA-222B9178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05147-FC0F-46DE-AA0F-4239DB80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F4DF3-6FE9-47EC-9053-28DBF84D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B94A1-BE21-486A-A874-A586AD67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0A4-6D05-4B3F-B5AC-5F9D9B68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04334-BDE5-40CD-84D7-AA020D2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BD8BD-EE6B-4D51-B97E-C741D245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D19722-C0A2-4761-B834-5B72DCC4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D2828-49D5-4B76-826D-D825BBF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BA940-8863-4916-9CEF-7261B1F6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DB05B4-E8B3-479A-B825-A2DB25C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0EEA82-2B4A-47E7-B326-672E36C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A9E54-4B0F-49E7-B103-3604D27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8A486-8BB3-4BE2-B64A-452A049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93D65B-9C3C-4AC7-9CC0-03ECC2D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B34-EC7B-4658-B377-0DC1AC68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9E76F-8E7D-4106-8E53-10EAE66B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191C9-D3DE-4912-BF54-36DC71F0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869BE-D672-4CF0-A652-77DE1DC7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13841-8422-4882-B0D3-99F96516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FA3E8-0577-4A89-8ABA-3BC00D07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50A14-14DE-44C0-8767-1714DD8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1846D-C10C-4687-9743-86903C4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E11C2-5DA6-4E47-AC88-8B52335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033A7-A2F4-4C88-99F1-E1D6F51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5A7C0-5680-4258-BF53-6DFF76F0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B9DD-EBC2-4DBE-B9C8-8841EB1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3DB5A-EEFB-42DC-9C28-567D21C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B4022-D1CB-4293-9561-AA12DB9D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27405-3048-4F33-8529-72FED1AE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FEAB6-4217-484C-99B2-F17C0F3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3B7C5-76F4-4B4A-95CB-C98EE6A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FED80-071B-4915-BE41-73B6A9A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D5ACB-5C99-4A0B-8250-780657A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4844D-F239-4B3D-A49A-09B41E8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F3E5A-613E-4B06-A6EB-B5BF90E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7BF72-9AC2-4038-AE96-B1212E0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D2C5-FEAD-46E0-A82E-64F9FE0A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52053-508C-4212-AECF-F2475881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7CAAB-958A-4DDA-A4A1-236BE3C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0864D-897D-4C66-81C9-BA155906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18B45-199E-4198-8CCB-3D68D5D2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B1046-5CA7-4CEE-8CA6-75E9EF8C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E6F8F0-0162-48DD-BFF7-2F83D64E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9E24BF-E754-446E-97DB-7F3412B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170052-9008-4A45-9A1F-149A98B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FE1430-059A-4311-A18A-40514122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CD9ED7-2A17-4693-B8AF-A41769AD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5A7-484E-4E0C-A8E5-C922B877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1EC7FB-0135-4E3A-AB81-113BF0E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1436DF-23BD-4771-B2B3-D6F37021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FE0ED-441B-447B-9A27-2EB13B7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D93AEB-D7A4-4848-95A6-9A9E995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E6C49D-E71B-4685-8E49-4632EAC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704A50-6D6D-425A-A223-2A062571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5A52D3-CC73-4880-A304-2DFFCBC3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2F6A8-06A1-4D1C-A815-27AC2F06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4DE01-AC4A-4E9B-B7A8-1DBD379C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494AE-DF7E-455F-A54C-FEB9B36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3010-75D1-47FA-AB09-7CFB01C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C3A2C-B19A-49D5-A210-6FF05F9E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4D9D0-1285-41B3-8EF2-F45A36D3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B14BF-1FF3-4CD3-BF61-257C6AC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B641B-B043-4C35-971F-81B6F6C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59D10-819F-412E-AA60-D039B8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A5261-93A6-48C7-B097-E6F0012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EF75D-B5FB-421D-AA54-5B854A5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7FE30-64CA-4681-9837-2DEBC68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31E4E-228E-40E3-9891-F832BDAE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14FF-B513-4C49-AFA9-0F9B95E8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6B6-A9D6-4693-9B56-DABBCD39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4BE8AB-2E5D-484A-B6B5-B3242752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5C204F-7C33-4E2D-A48E-61A8C6C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6E7575-EFCF-41D6-903C-36D6DD11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8B8F6A-A241-40C0-9658-FF4DE96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5A1AF0-9AE3-40E6-ACCA-5310FBF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E63822-B23B-414B-880E-D6D906C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C247C8-3702-4DED-A553-325BECF6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B841AB-B935-417B-99DD-D975242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ECA1BA-20C5-4F32-9924-714C6A6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17C-953E-4A48-A190-F053613F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367F14-52E5-4CE9-AC8C-169DCFD3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81199B-A3FB-4514-BF96-013BB64F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AC2559-8F18-42E6-BE8D-65C2893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519-B79D-4AFF-A5FE-6BA26D9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3EB-C30A-4FC4-85F4-FED74C5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CE8D-A6A5-4608-9F95-F54B9DC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0B7A06-D40C-4EA6-B598-A71B80A9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E65294-FC04-49E9-B523-79EFA55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71D9A6-8747-4F12-96C5-262A3A8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BA2-59EC-496E-AB44-ADF7130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91A7CB-2777-4EDC-8919-46852001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EB4555-22B7-4BDB-B283-A23F318A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06218C-08B7-4EC0-8186-6D3435A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43F77D-E702-4C41-9A9D-8B0E66C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F5280D-D5C5-415E-A829-6DB17AFE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85BDEB-FF6F-4405-A76D-1B23279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B92611-9721-4018-B812-E4A2AF57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EE5B94-AF97-4E43-B308-17DB2062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DAB0CA-DDB5-4E08-A3E5-FD8152A0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EBA26F-10D6-4558-A02F-69B24BEB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7F5C-FBC7-4949-B454-F4696EF1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5DF4AA-A1CE-46D3-9F1F-79ACC08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6B9A1A-3402-483B-856F-B2550CA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50A49D-E814-4585-9532-AAD726B6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DB3734-78CF-4740-BDBD-F25D8BF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79C701-4EB3-48A3-B01D-3A56789A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0D0F3F-E6C4-41C6-8372-DEBEBB6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684ACD-F2ED-4FD4-BAFC-57FA0AD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6D64BE-F044-4A7E-B07E-BEC6349C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3537C5-4513-49EE-B377-8B1FAABD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061DCF-53BB-4690-975B-A6582D29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3A1-FEAF-4CB0-9F41-8053AF0D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5A0004-03B6-4E7E-9D8A-D0CC7588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927891-0EC0-458B-B977-24AC90BF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28A574-7156-4176-90AF-6597EA24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B3977F-DAE0-40E7-B407-73EB4952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16DC0A-A82A-40B8-AE0A-9D22A1D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0FE498-A184-49CA-81E5-7AE9CE5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7D9DC1-930D-40CC-8E3E-E6869849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C493D-C3F8-412B-8455-9A603A2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6570A2-503E-40A9-B59B-4F6EF90D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20F9DF-94E0-490B-874B-7EB4ED16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7A69D-50D5-4BC1-B4DE-01B2D6C0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0BD603-A7AA-4A61-91AA-A2264A7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DCE2FC-FA1C-4F6F-ACDB-9EB01095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53934E-6EEE-4495-A74F-92AF7DA6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D5E0F4-0BD0-4E12-90CF-EDA86872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EDABAF-DAC8-4A24-80A9-F2EE369D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5FA7A9-6837-4D42-AEC8-F9FD596B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431E8C-A54F-484B-B5B4-31EAD3C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F9D23F-CCBD-46B1-9969-831FB22D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34533D-F7E2-4A72-871E-97F96FC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FFBB72-62C4-4C46-97C4-67EF886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0F425B-70CA-4163-AB23-E349EE6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76423F-1336-48A5-99E0-6046FF9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049589-973A-47FE-901B-589E6CB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DEFA43-60AF-4042-AEB6-6D71E09C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C2FBAA-2888-498C-851C-AFDAA627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5AC5CD-0F78-4ADA-AB69-407F063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FC64E8-8BFC-4B63-9760-C398B4E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765F36-41A7-4B86-B0DA-E060515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78F114-75E8-4939-A1FC-BF088AC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4BEDE3-1099-4087-AB35-9B1A7440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73409E-10CF-48A6-821A-45B21E8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6F0D61-9A6B-42F7-91F0-8F2C12C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802D64-3E4D-47B0-A39D-993EA64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7B7C92-AB97-4B32-8286-F9566E2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BD8D8F-45C0-4ECB-9E0E-E3E84943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8F2-3CE2-4413-928B-D82F0F5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44DC84-129E-450B-82A7-423BF981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F50CF4-1C44-4D59-94A3-F7E75C9C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58C299-2B8A-4BE7-8CC3-FC42DF7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85E65B-73C0-4C91-AC30-B2FEB061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D0133A-2EC2-4F97-8F2C-0656B8E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4E765F-B397-4F69-A489-0AF28E2B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26DFCD-CADC-4123-B131-FB81151A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00B752-3B74-4229-9A60-4938AA1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FBAEFB-36A4-4E01-91EE-4BBADB5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C2DB21-25B5-4C53-B39F-4592551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BC938D-7173-4743-B96B-4A1A601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837508-C6FC-45B6-B27A-3C5251EC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E8F24E-CCC8-4F84-9B5A-55A45AD4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F5C7A2-8E5F-4B83-BB44-24FD85BE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B5FCDC-67D5-49DC-8925-E5499D6A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8EB536-ED6A-4B25-A8DB-E001D19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1E4D56-041C-484D-81C2-8CA20D0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AB9035-2284-414A-991C-85D1C71A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8F9896-3198-4B2A-AC08-8C8B8AD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CAD72C-8C21-4855-A613-9DAB78B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056F5C-B245-4ED5-A787-4FD193B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4816CF-9E20-474E-94E2-8CEFC94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1B92BE-99FB-4ED1-9447-6327887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74663D-8195-49B0-8309-BA021899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5BF3E2-BCF1-4B58-99F1-26A7CDD5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4BFC34-7E60-43DB-A12E-B5543D9C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DD3E50-92C3-4788-8427-EED87CA8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B30C2F-0D97-469F-BDA2-711B70A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1E540D-C20C-4FD6-8E25-E5B8FA7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647DE0-DE09-4384-8B86-FC137DE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401C08-6F23-4547-A8BB-1179BFAE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522357-7901-40ED-9AC4-96F1CE4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62CAE4-5FB0-472C-9066-145A86E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88C053-D769-4052-BE32-8161FC8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5D057B-169D-4648-8413-E72E491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6EAA1FD-1C9C-40A5-9320-844B77B7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3255FD-8C59-4109-BF72-528D984A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F392DA-9F86-45D5-8128-0A6DA5C0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6E38D7-D429-4BB8-9C1A-E31CB72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0063B16-A4E6-4CCE-BDFD-E7A004F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A3B623-AC3D-4360-BD33-B6FE6C0B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BF5944-0D08-416B-85AD-2559103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4DAFA0-9F18-4613-9A85-323A904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40A671-293E-40A7-9546-3A62B6D4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55528D-460B-4745-BDDF-D30D500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4B3B1C-23D8-4458-8ECB-1468B0D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BAC2F2-05A5-493D-B6D0-6E194EC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931CC5A-C8FC-454C-997D-2144B858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371DD6-B4BA-4B29-BB31-93CD41A1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D52-1624-4F95-AF24-3321C79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75619F-DDC6-4ADD-A907-AF9625FC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424-A794-43D0-946E-FAC7CD6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80583-D25F-459D-BC02-2F522BC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B3B57-44C8-47B1-96A9-F409C53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420AC-B4C7-4C79-876F-174A96BF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C97A6-144F-4621-99D0-FDF7F148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DE860-12E7-416E-A638-9EA3F077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EAB6D-BFCC-406E-885D-1B7E314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5438D-4AE4-4FD5-81CD-E1B6AAF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9926B7-DDDC-4ECC-A398-A0469A4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37091A-F00B-4534-B3AA-071C887D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21F6B-4A39-46FC-AF75-ADC6A411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359-3B0F-47B5-AE34-F0F059C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0C2B5-7921-4BBB-819A-4B1A5D25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3320C-5D13-4298-AD71-9D1E6A05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0FDAA-1A29-4679-AA1C-042F3538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A81F9-65FA-4A5D-ABE7-20D1B76C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A4C2CA-37DC-421E-88D4-A31DBB47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16219-A3E4-4B29-898F-2B037B0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87F3F-6CC7-4E4F-8CAE-A024272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52D55C-62C2-4060-9304-F34730D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6F7EA-D768-446B-86D7-27A0995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53593-8A08-471B-8F42-9748613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624-4A32-410B-867B-EA47AB9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35B7E2-6E56-4B78-A028-3240D3D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ECD2FB-48B1-4866-B203-3E679826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9B767-7312-4340-80E5-2DC2324A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257-773A-40C3-AA19-06D3E213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60B-C903-4377-B269-A6250BA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26960" y="836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42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55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55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230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015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42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230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015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A3027B-7086-4D76-B063-8A385D73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6C5BD-DDAB-4E8D-AEF9-13DFF2F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36AEB-EE93-4826-8926-CD84813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db4de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db4de"/>
                </a:solidFill>
                <a:latin typeface="Calibri"/>
              </a:rPr>
              <a:t>PRŮMYSL 4.0 – PŘÍLEŽITOSTI A RIZIK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7F2B-07EE-4C30-850C-5FE84D1E9436}" type="slidenum">
              <a:rPr b="0" lang="cs-CZ" sz="1200" spc="-1" strike="noStrike">
                <a:solidFill>
                  <a:srgbClr val="8db4d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376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377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378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0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1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2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7890-58F6-41AD-AA71-25583CDB9D22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421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422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423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3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4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5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911-FD0E-47B9-8DA3-23FEDD184924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466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467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468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6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7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8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950-D2D4-4974-A9C8-80128B3A76FE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512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513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9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0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1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421-09C1-4C78-B449-AFC58FA22A8C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556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557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558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2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3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4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316-F336-4CB4-B0F7-A55C780B57E1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Obdélník 6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639" name="Obdélník 7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640" name="Obrázek 8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5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6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7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D9ED-46D9-4835-A0B3-08D47E688294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římá spojnice 11"/>
          <p:cNvSpPr/>
          <p:nvPr/>
        </p:nvSpPr>
        <p:spPr>
          <a:xfrm>
            <a:off x="0" y="6213600"/>
            <a:ext cx="9144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8"/>
          </p:nvPr>
        </p:nvSpPr>
        <p:spPr>
          <a:xfrm>
            <a:off x="852120" y="573264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9"/>
          </p:nvPr>
        </p:nvSpPr>
        <p:spPr>
          <a:xfrm>
            <a:off x="850680" y="632772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900" spc="-1" strike="noStrike">
                <a:solidFill>
                  <a:srgbClr val="2a265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2a2654"/>
                </a:solidFill>
                <a:latin typeface="Calibri"/>
              </a:rPr>
              <a:t>PRŮMYSL 4.0 – PŘÍLEŽITOSTI A RIZIK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římá spojnice 11"/>
          <p:cNvSpPr/>
          <p:nvPr/>
        </p:nvSpPr>
        <p:spPr>
          <a:xfrm>
            <a:off x="0" y="6213600"/>
            <a:ext cx="9144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0"/>
          </p:nvPr>
        </p:nvSpPr>
        <p:spPr>
          <a:xfrm>
            <a:off x="858960" y="5732640"/>
            <a:ext cx="768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1"/>
          </p:nvPr>
        </p:nvSpPr>
        <p:spPr>
          <a:xfrm>
            <a:off x="865080" y="6327720"/>
            <a:ext cx="5113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900" spc="-1" strike="noStrike">
                <a:solidFill>
                  <a:srgbClr val="2a265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2a2654"/>
                </a:solidFill>
                <a:latin typeface="Calibri"/>
              </a:rPr>
              <a:t>PRŮMYSL 4.0 – PŘÍLEŽITOSTI A RIZIK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765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766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767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2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3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4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006-66C7-44FE-80AB-F717DF6A7100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db4de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db4de"/>
                </a:solidFill>
                <a:latin typeface="Calibri"/>
              </a:rPr>
              <a:t>PRŮMYSL 4.0 – PŘÍLEŽITOSTI A RIZIK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db4d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7BB-E091-4102-AC90-B36D3FEB7F9D}" type="slidenum">
              <a:rPr b="0" lang="cs-CZ" sz="1200" spc="-1" strike="noStrike">
                <a:solidFill>
                  <a:srgbClr val="8db4d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810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811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812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pic>
        <p:nvPicPr>
          <p:cNvPr id="813" name="Obrázek 10" descr=""/>
          <p:cNvPicPr/>
          <p:nvPr/>
        </p:nvPicPr>
        <p:blipFill>
          <a:blip r:embed="rId3"/>
          <a:stretch/>
        </p:blipFill>
        <p:spPr>
          <a:xfrm>
            <a:off x="7596360" y="11160"/>
            <a:ext cx="1455480" cy="54612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5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6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7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2398-AE28-4450-BCF0-8FAC9D3FC68A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932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933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934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48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49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50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79E-2448-44B3-8055-147BFB3DC359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977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978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979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51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2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3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49A5-14D3-4E35-8CBE-0A624693B0A2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022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023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024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54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55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56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94B-4A9F-4457-BA88-4C22EFF1F834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067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068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069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7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8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9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4F4-F10F-4EAA-8344-646F53553F97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112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113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114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60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61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62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215F-F149-4C95-8916-7F374FFAB05C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157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158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159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63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64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65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DC9-BDBD-4FF9-998A-544E889C69EF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římá spojnice 11"/>
          <p:cNvSpPr/>
          <p:nvPr/>
        </p:nvSpPr>
        <p:spPr>
          <a:xfrm>
            <a:off x="0" y="6213600"/>
            <a:ext cx="9144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852120" y="573264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850680" y="632772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900" spc="-1" strike="noStrike">
                <a:solidFill>
                  <a:srgbClr val="2a265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2a2654"/>
                </a:solidFill>
                <a:latin typeface="Calibri"/>
              </a:rPr>
              <a:t>PRŮMYSL 4.0 – PŘÍLEŽITOSTI A RIZIK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Obdélník 6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240" name="Obdélník 7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241" name="Obrázek 8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66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67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68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0CC-60F4-42F0-88AB-ABE857B538FE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římá spojnice 11"/>
          <p:cNvSpPr/>
          <p:nvPr/>
        </p:nvSpPr>
        <p:spPr>
          <a:xfrm>
            <a:off x="0" y="6213600"/>
            <a:ext cx="9144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858960" y="5732640"/>
            <a:ext cx="768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1.9.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864720" y="6327720"/>
            <a:ext cx="5146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900" spc="-1" strike="noStrike">
                <a:solidFill>
                  <a:srgbClr val="2a265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2a2654"/>
                </a:solidFill>
                <a:latin typeface="Calibri"/>
              </a:rPr>
              <a:t>PRŮMYSL 4.0 – PŘÍLEŽITOSTI A RIZIK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65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66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67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1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2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3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188-28ED-4934-B928-927A470BCEC6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210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211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212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4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5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6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002-0AC5-4C4A-B066-8EC7F73C0776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-1440"/>
            <a:ext cx="9144000" cy="1441440"/>
          </a:xfrm>
          <a:prstGeom prst="rect">
            <a:avLst/>
          </a:prstGeom>
          <a:solidFill>
            <a:srgbClr val="f2f2f2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331" name="Obdélník 7"/>
          <p:cNvSpPr/>
          <p:nvPr/>
        </p:nvSpPr>
        <p:spPr>
          <a:xfrm>
            <a:off x="0" y="6473880"/>
            <a:ext cx="9144000" cy="384120"/>
          </a:xfrm>
          <a:prstGeom prst="rect">
            <a:avLst/>
          </a:prstGeom>
          <a:solidFill>
            <a:srgbClr val="2b9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332" name="Obdélník 8"/>
          <p:cNvSpPr/>
          <p:nvPr/>
        </p:nvSpPr>
        <p:spPr>
          <a:xfrm>
            <a:off x="8459640" y="6473880"/>
            <a:ext cx="390600" cy="384120"/>
          </a:xfrm>
          <a:prstGeom prst="rect">
            <a:avLst/>
          </a:prstGeom>
          <a:solidFill>
            <a:srgbClr val="2a26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333" name="Obrázek 9" descr=""/>
          <p:cNvPicPr/>
          <p:nvPr/>
        </p:nvPicPr>
        <p:blipFill>
          <a:blip r:embed="rId2"/>
          <a:stretch/>
        </p:blipFill>
        <p:spPr>
          <a:xfrm>
            <a:off x="425520" y="0"/>
            <a:ext cx="503280" cy="5097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696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90d1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275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275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2" marL="536400" indent="-158400">
              <a:spcBef>
                <a:spcPts val="275"/>
              </a:spcBef>
              <a:buClr>
                <a:srgbClr val="7f7f7f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3" marL="719280" indent="-150840">
              <a:spcBef>
                <a:spcPts val="27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4" marL="896760" indent="-141120">
              <a:spcBef>
                <a:spcPts val="275"/>
              </a:spcBef>
              <a:buClr>
                <a:srgbClr val="a6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5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  <a:p>
            <a:pPr lvl="6" marL="896760" indent="-141120">
              <a:spcBef>
                <a:spcPts val="275"/>
              </a:spcBef>
              <a:buClr>
                <a:srgbClr val="2b90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632628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Calibri"/>
              </a:rPr>
              <a:t>21.9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8"/>
          </p:nvPr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9"/>
          </p:nvPr>
        </p:nvSpPr>
        <p:spPr>
          <a:xfrm>
            <a:off x="8508960" y="6479640"/>
            <a:ext cx="287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783-F0B1-4B04-BA85-513767D28BA1}" type="slidenum">
              <a:rPr b="0" lang="cs-CZ" sz="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Zástupný symbol pro obrázek 6" descr=""/>
          <p:cNvPicPr/>
          <p:nvPr/>
        </p:nvPicPr>
        <p:blipFill>
          <a:blip r:embed="rId1"/>
          <a:srcRect l="12813" t="0" r="12813" b="0"/>
          <a:stretch/>
        </p:blipFill>
        <p:spPr>
          <a:xfrm>
            <a:off x="0" y="0"/>
            <a:ext cx="9144000" cy="362124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52120" y="378936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cs-CZ" sz="3000" spc="-1" strike="noStrike">
                <a:solidFill>
                  <a:srgbClr val="2b90d1"/>
                </a:solidFill>
                <a:latin typeface="Calibri"/>
              </a:rPr>
              <a:t>PRŮMYSL 4.0 – PŘÍLEŽITOSTI A RIZIKA </a:t>
            </a:r>
            <a:endParaRPr b="0" lang="en-US" sz="30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850680" y="4723920"/>
            <a:ext cx="7391160" cy="1008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2b90d1"/>
                </a:solidFill>
                <a:latin typeface="Calibri"/>
              </a:rPr>
              <a:t>ZAMĚSTNANOST MLADÉ GENERACE V CHEMICKÉM PRŮMYSLU JAKO SPOLEČNÝ CÍL SOCIÁLNÍCH PARTNERŮ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b90d1"/>
                </a:solidFill>
                <a:latin typeface="Calibri"/>
              </a:rPr>
              <a:t>JIŘÍ HOLOUBEK</a:t>
            </a:r>
            <a:endParaRPr b="0" lang="en-US" sz="17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6" name="Zástupný symbol pro datum 9"/>
          <p:cNvSpPr/>
          <p:nvPr/>
        </p:nvSpPr>
        <p:spPr>
          <a:xfrm>
            <a:off x="851040" y="5516640"/>
            <a:ext cx="2208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b90d1"/>
                </a:solidFill>
                <a:latin typeface="Calibri"/>
              </a:rPr>
              <a:t>21.9.2017</a:t>
            </a: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287" name="Zástupný symbol pro zápatí 8"/>
          <p:cNvSpPr/>
          <p:nvPr/>
        </p:nvSpPr>
        <p:spPr>
          <a:xfrm>
            <a:off x="851040" y="632772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2a2654"/>
                </a:solidFill>
                <a:latin typeface="Calibri"/>
              </a:rPr>
              <a:t>PRŮMYSL 4.0 – PŘÍLEŽITOSTI A RIZIKA </a:t>
            </a:r>
            <a:endParaRPr b="0" lang="en-US" sz="9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288" name="Picture 2" descr="M:\AMI\!GRAFIKA\2015\SPCR\logo_PPT_inverz.png"/>
          <p:cNvPicPr/>
          <p:nvPr/>
        </p:nvPicPr>
        <p:blipFill>
          <a:blip r:embed="rId2"/>
          <a:stretch/>
        </p:blipFill>
        <p:spPr>
          <a:xfrm>
            <a:off x="852480" y="816120"/>
            <a:ext cx="18003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IGITÁLNÍ TRANSFORMACE FIRMY – PŘÍLEŽITOST PRO MLADOU GENERACI 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56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7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8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B6C4-169F-4A32-B132-E14BE783D70D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758520" y="1989000"/>
            <a:ext cx="77518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Vzniká nový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ociotechnologický celek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, v němž každý prvek firemní architektury má svůj digitální základ v kontextu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jednoceného datového prostoru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Kombinace "tvrdých" technologických faktorů, umožňující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ráci s digitálními obsahy – daty 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zahrnujícími  jakékoliv digitalizované obsahy k dalšímu využití a "měkkých" faktorů, tedy</a:t>
            </a:r>
            <a:r>
              <a:rPr b="1" lang="cs-CZ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atové kultury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(datově gramotní tvůrci dat a jejich konzumenti, kultura plynulého přenosu dat, standardy, nástroje, procesy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IGITÁLNÍ TRANSFORMACE FIRMY – PŘÍLEŽITOST PRO MLADOU GENERACI 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61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62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63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F621-8B92-4C72-838B-10B886637123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26560" y="1976040"/>
            <a:ext cx="73868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MILENIÁLOVÉ (generace Y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21640" indent="-3391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</a:rPr>
              <a:t>Generace narozená na prahu „digitální doby“, tedy na konci 80. a v průběhu 90. let minulého století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521640" indent="-3391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</a:rPr>
              <a:t>V době zahájení jejich vzdělávání obrovský rozvoj výpočetní techniky a digitální spotřební elektroniky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521640" indent="-3391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</a:rPr>
              <a:t>Chápání nových technologií jako prostředků nikoliv cílů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521640" indent="-3391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</a:rPr>
              <a:t>Neochota pracovat stejným způsobem jako generace předchozí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521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826560" y="4549320"/>
            <a:ext cx="738684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OSTMILENIÁLOVÉ (generace Z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27040" indent="-3427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  <a:ea typeface="Calibri"/>
              </a:rPr>
              <a:t>Další  změny v chápání potřeb a prác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527040" indent="-3427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Calibri"/>
                <a:ea typeface="Calibri"/>
              </a:rPr>
              <a:t>Diametrálně jiný vztah k digitálním prostředkům i prostředí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IGITÁLNÍ TRANSFORMACE FIRMY – PŘÍLEŽITOST PRO MLADOU GENERACI 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67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68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69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23C0-4F11-4AF4-8365-FCDA8C9BE7A4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3272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Bez soustavného předávání znalostí a zkušeností technologů a techniků mladé generaci je úspěch digitální transformace firmy  nemožný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12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71" name="Picture 3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4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ěkuji Vám za Vaši pozornost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73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74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75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CF60-A9AE-45D9-875B-E39A7A3BC9CE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76" name="Nadpis 6"/>
          <p:cNvSpPr/>
          <p:nvPr/>
        </p:nvSpPr>
        <p:spPr>
          <a:xfrm>
            <a:off x="395280" y="335772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  <a:ea typeface="Arial"/>
              </a:rPr>
              <a:t>Jiří Holoubek</a:t>
            </a:r>
            <a:endParaRPr b="0" lang="en-US" sz="2400" spc="-1" strike="noStrike">
              <a:solidFill>
                <a:srgbClr val="2b90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77" name="Nadpis 6"/>
          <p:cNvSpPr/>
          <p:nvPr/>
        </p:nvSpPr>
        <p:spPr>
          <a:xfrm>
            <a:off x="468360" y="378612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Calibri"/>
                <a:ea typeface="Arial"/>
              </a:rPr>
              <a:t>jiri.holoubek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@</a:t>
            </a:r>
            <a:r>
              <a:rPr b="0" lang="cs-CZ" sz="1800" spc="-1" strike="noStrike">
                <a:solidFill>
                  <a:srgbClr val="0070c0"/>
                </a:solidFill>
                <a:latin typeface="Calibri"/>
                <a:ea typeface="Arial"/>
              </a:rPr>
              <a:t>elcom.cz</a:t>
            </a: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PRŮMYSL 4.0 V ČESKÉ REPUBLICE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290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291" name="Zástupný symbol pro zápatí 4"/>
          <p:cNvSpPr/>
          <p:nvPr/>
        </p:nvSpPr>
        <p:spPr>
          <a:xfrm>
            <a:off x="415800" y="6480000"/>
            <a:ext cx="542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292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E1F-F735-4EF7-9034-C0F3DF263CDD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grpSp>
        <p:nvGrpSpPr>
          <p:cNvPr id="1293" name="Skupina 12"/>
          <p:cNvGrpSpPr/>
          <p:nvPr/>
        </p:nvGrpSpPr>
        <p:grpSpPr>
          <a:xfrm>
            <a:off x="127440" y="4284720"/>
            <a:ext cx="2782080" cy="1368360"/>
            <a:chOff x="127440" y="4284720"/>
            <a:chExt cx="2782080" cy="1368360"/>
          </a:xfrm>
        </p:grpSpPr>
        <p:pic>
          <p:nvPicPr>
            <p:cNvPr id="1294" name="Picture 10" descr="Výsledek obrázku pro průmysl 4.0"/>
            <p:cNvPicPr/>
            <p:nvPr/>
          </p:nvPicPr>
          <p:blipFill>
            <a:blip r:embed="rId1"/>
            <a:stretch/>
          </p:blipFill>
          <p:spPr>
            <a:xfrm>
              <a:off x="182880" y="4284720"/>
              <a:ext cx="16448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TextovéPole 8"/>
            <p:cNvSpPr/>
            <p:nvPr/>
          </p:nvSpPr>
          <p:spPr>
            <a:xfrm>
              <a:off x="127440" y="5315760"/>
              <a:ext cx="278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b90d1"/>
                  </a:solidFill>
                  <a:latin typeface="Arial"/>
                  <a:ea typeface="ＭＳ Ｐゴシック"/>
                </a:rPr>
                <a:t>Národní iniciativa 6.-9.2015</a:t>
              </a:r>
              <a:endParaRPr b="0" lang="en-US" sz="1600" spc="-1" strike="noStrike">
                <a:solidFill>
                  <a:srgbClr val="2b90d1"/>
                </a:solidFill>
                <a:latin typeface="Arial"/>
              </a:endParaRPr>
            </a:p>
          </p:txBody>
        </p:sp>
      </p:grpSp>
      <p:sp>
        <p:nvSpPr>
          <p:cNvPr id="1296" name="TextovéPole 17"/>
          <p:cNvSpPr/>
          <p:nvPr/>
        </p:nvSpPr>
        <p:spPr>
          <a:xfrm>
            <a:off x="438480" y="1150920"/>
            <a:ext cx="31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b90d1"/>
                </a:solidFill>
                <a:latin typeface="Arial"/>
                <a:ea typeface="ＭＳ Ｐゴシック"/>
              </a:rPr>
              <a:t>MPO a meziresortní projednání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</p:txBody>
      </p:sp>
      <p:cxnSp>
        <p:nvCxnSpPr>
          <p:cNvPr id="1297" name="Přímá spojnice se šipkou 18"/>
          <p:cNvCxnSpPr/>
          <p:nvPr/>
        </p:nvCxnSpPr>
        <p:spPr>
          <a:xfrm flipV="1">
            <a:off x="3935160" y="141228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8" name="TextovéPole 19"/>
          <p:cNvSpPr/>
          <p:nvPr/>
        </p:nvSpPr>
        <p:spPr>
          <a:xfrm>
            <a:off x="6061320" y="1150920"/>
            <a:ext cx="206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Usnesení vlády ČR 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4.8.2016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</p:txBody>
      </p:sp>
      <p:grpSp>
        <p:nvGrpSpPr>
          <p:cNvPr id="1299" name="Skupina 20"/>
          <p:cNvGrpSpPr/>
          <p:nvPr/>
        </p:nvGrpSpPr>
        <p:grpSpPr>
          <a:xfrm>
            <a:off x="3254400" y="1916280"/>
            <a:ext cx="2538360" cy="3743640"/>
            <a:chOff x="3254400" y="1916280"/>
            <a:chExt cx="2538360" cy="3743640"/>
          </a:xfrm>
        </p:grpSpPr>
        <p:pic>
          <p:nvPicPr>
            <p:cNvPr id="1300" name="Picture 8" descr="Výsledek obrázku pro průmysl 4.0"/>
            <p:cNvPicPr/>
            <p:nvPr/>
          </p:nvPicPr>
          <p:blipFill>
            <a:blip r:embed="rId2"/>
            <a:stretch/>
          </p:blipFill>
          <p:spPr>
            <a:xfrm>
              <a:off x="3254400" y="1916280"/>
              <a:ext cx="2538360" cy="34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TextovéPole 14"/>
            <p:cNvSpPr/>
            <p:nvPr/>
          </p:nvSpPr>
          <p:spPr>
            <a:xfrm>
              <a:off x="3888360" y="532260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b90d1"/>
                  </a:solidFill>
                  <a:latin typeface="Arial"/>
                  <a:ea typeface="ＭＳ Ｐゴシック"/>
                </a:rPr>
                <a:t>Kniha 06.2016</a:t>
              </a:r>
              <a:endParaRPr b="0" lang="en-US" sz="1600" spc="-1" strike="noStrike">
                <a:solidFill>
                  <a:srgbClr val="2b90d1"/>
                </a:solidFill>
                <a:latin typeface="Arial"/>
              </a:endParaRPr>
            </a:p>
          </p:txBody>
        </p:sp>
      </p:grpSp>
      <p:sp>
        <p:nvSpPr>
          <p:cNvPr id="1302" name="TextovéPole 23"/>
          <p:cNvSpPr/>
          <p:nvPr/>
        </p:nvSpPr>
        <p:spPr>
          <a:xfrm>
            <a:off x="270000" y="568332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acovní skupina pro implementaci Průmysl 4.0 ve firmách v rámci ET pro digitální ekonomiku SPČR www.firma4.cz </a:t>
            </a:r>
            <a:endParaRPr b="0" lang="en-US" sz="1800" spc="-1" strike="noStrike">
              <a:solidFill>
                <a:srgbClr val="2b90d1"/>
              </a:solidFill>
              <a:latin typeface="Arial"/>
            </a:endParaRPr>
          </a:p>
        </p:txBody>
      </p:sp>
      <p:grpSp>
        <p:nvGrpSpPr>
          <p:cNvPr id="1303" name="Skupina 24"/>
          <p:cNvGrpSpPr/>
          <p:nvPr/>
        </p:nvGrpSpPr>
        <p:grpSpPr>
          <a:xfrm>
            <a:off x="229320" y="1814400"/>
            <a:ext cx="2658600" cy="1824840"/>
            <a:chOff x="229320" y="1814400"/>
            <a:chExt cx="2658600" cy="1824840"/>
          </a:xfrm>
        </p:grpSpPr>
        <p:sp>
          <p:nvSpPr>
            <p:cNvPr id="1304" name="TextovéPole 17"/>
            <p:cNvSpPr/>
            <p:nvPr/>
          </p:nvSpPr>
          <p:spPr>
            <a:xfrm>
              <a:off x="229320" y="3058560"/>
              <a:ext cx="265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b90d1"/>
                  </a:solidFill>
                  <a:latin typeface="Arial"/>
                  <a:ea typeface="ＭＳ Ｐゴシック"/>
                </a:rPr>
                <a:t>Detailní rozpracování </a:t>
              </a:r>
              <a:endParaRPr b="0" lang="en-US" sz="1600" spc="-1" strike="noStrike">
                <a:solidFill>
                  <a:srgbClr val="2b90d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b90d1"/>
                  </a:solidFill>
                  <a:latin typeface="Arial"/>
                  <a:ea typeface="ＭＳ Ｐゴシック"/>
                </a:rPr>
                <a:t>Národní iniciativy 02.2016</a:t>
              </a:r>
              <a:endParaRPr b="0" lang="en-US" sz="1600" spc="-1" strike="noStrike">
                <a:solidFill>
                  <a:srgbClr val="2b90d1"/>
                </a:solidFill>
                <a:latin typeface="Arial"/>
              </a:endParaRPr>
            </a:p>
          </p:txBody>
        </p:sp>
        <p:pic>
          <p:nvPicPr>
            <p:cNvPr id="1305" name="Obrázek 18" descr=""/>
            <p:cNvPicPr/>
            <p:nvPr/>
          </p:nvPicPr>
          <p:blipFill>
            <a:blip r:embed="rId3"/>
            <a:stretch/>
          </p:blipFill>
          <p:spPr>
            <a:xfrm>
              <a:off x="311760" y="1814400"/>
              <a:ext cx="1879200" cy="1324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06" name="Přímá spojnice se šipkou 27"/>
          <p:cNvCxnSpPr/>
          <p:nvPr/>
        </p:nvCxnSpPr>
        <p:spPr>
          <a:xfrm flipV="1">
            <a:off x="1042560" y="3796560"/>
            <a:ext cx="1080" cy="383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7" name="Přímá spojnice se šipkou 28"/>
          <p:cNvCxnSpPr/>
          <p:nvPr/>
        </p:nvCxnSpPr>
        <p:spPr>
          <a:xfrm flipV="1">
            <a:off x="1111320" y="1528560"/>
            <a:ext cx="218160" cy="34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8" name="Přímá spojnice se šipkou 29"/>
          <p:cNvCxnSpPr/>
          <p:nvPr/>
        </p:nvCxnSpPr>
        <p:spPr>
          <a:xfrm>
            <a:off x="7167600" y="1798560"/>
            <a:ext cx="40320" cy="77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9" name="TextovéPole 30"/>
          <p:cNvSpPr/>
          <p:nvPr/>
        </p:nvSpPr>
        <p:spPr>
          <a:xfrm>
            <a:off x="6053040" y="2611440"/>
            <a:ext cx="277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Usnesení vlády ČR 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5.2.2017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liance SPOLEČNOST 4.0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</p:txBody>
      </p:sp>
      <p:cxnSp>
        <p:nvCxnSpPr>
          <p:cNvPr id="1310" name="Pravoúhlá spojnice 31"/>
          <p:cNvCxnSpPr/>
          <p:nvPr/>
        </p:nvCxnSpPr>
        <p:spPr>
          <a:xfrm>
            <a:off x="1679040" y="2062080"/>
            <a:ext cx="1513800" cy="7200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311" name="TextovéPole 32"/>
          <p:cNvSpPr/>
          <p:nvPr/>
        </p:nvSpPr>
        <p:spPr>
          <a:xfrm>
            <a:off x="6108840" y="4281480"/>
            <a:ext cx="277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vní verze Akčního plánu pro SPOLEČNOST 4.0 – gestor ÚV ČR – do vlády ještě v září 2017</a:t>
            </a:r>
            <a:endParaRPr b="0" lang="en-US" sz="1600" spc="-1" strike="noStrike">
              <a:solidFill>
                <a:srgbClr val="2b90d1"/>
              </a:solidFill>
              <a:latin typeface="Arial"/>
            </a:endParaRPr>
          </a:p>
        </p:txBody>
      </p:sp>
      <p:cxnSp>
        <p:nvCxnSpPr>
          <p:cNvPr id="1312" name="Přímá spojnice se šipkou 33"/>
          <p:cNvCxnSpPr/>
          <p:nvPr/>
        </p:nvCxnSpPr>
        <p:spPr>
          <a:xfrm flipH="1">
            <a:off x="7219440" y="3465000"/>
            <a:ext cx="7200" cy="794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AGENDY 4.0 V EVROPĚ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14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15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16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BBE-C698-4EA2-B828-2356B42CE9F5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317" name="Obrázek 7" descr=""/>
          <p:cNvPicPr/>
          <p:nvPr/>
        </p:nvPicPr>
        <p:blipFill>
          <a:blip r:embed="rId1"/>
          <a:stretch/>
        </p:blipFill>
        <p:spPr>
          <a:xfrm>
            <a:off x="1547640" y="1130400"/>
            <a:ext cx="59770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AGENDY 4.0 V EVROPĚ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19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20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21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72DC-3EA3-4F92-AEBC-DE3F3B47EF93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322" name="Obrázek 1" descr=""/>
          <p:cNvPicPr/>
          <p:nvPr/>
        </p:nvPicPr>
        <p:blipFill>
          <a:blip r:embed="rId1"/>
          <a:stretch/>
        </p:blipFill>
        <p:spPr>
          <a:xfrm>
            <a:off x="160200" y="1052640"/>
            <a:ext cx="8347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JDE VŮBEC O REVOLUCI?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24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25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26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0EB-8B3B-4CCC-A475-133491ECD88F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55640" y="1176480"/>
            <a:ext cx="738648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 HLEDISKA TECHNOLOGIÍ PATRNĚ 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27040" indent="-34272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kutečné průmyslové revoluce byly jen ty dvě první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grpSp>
        <p:nvGrpSpPr>
          <p:cNvPr id="1328" name="Skupina 2"/>
          <p:cNvGrpSpPr/>
          <p:nvPr/>
        </p:nvGrpSpPr>
        <p:grpSpPr>
          <a:xfrm>
            <a:off x="826920" y="1979640"/>
            <a:ext cx="6985080" cy="2305080"/>
            <a:chOff x="826920" y="1979640"/>
            <a:chExt cx="6985080" cy="2305080"/>
          </a:xfrm>
        </p:grpSpPr>
        <p:pic>
          <p:nvPicPr>
            <p:cNvPr id="1329" name="Zástupný symbol pro obsah 4" descr=""/>
            <p:cNvPicPr/>
            <p:nvPr/>
          </p:nvPicPr>
          <p:blipFill>
            <a:blip r:embed="rId1"/>
            <a:stretch/>
          </p:blipFill>
          <p:spPr>
            <a:xfrm>
              <a:off x="826920" y="1979640"/>
              <a:ext cx="35956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4" descr="Výsledek obrázku pro transmise"/>
            <p:cNvPicPr/>
            <p:nvPr/>
          </p:nvPicPr>
          <p:blipFill>
            <a:blip r:embed="rId2"/>
            <a:stretch/>
          </p:blipFill>
          <p:spPr>
            <a:xfrm>
              <a:off x="4398840" y="2103480"/>
              <a:ext cx="3413160" cy="200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1" name="Zástupný symbol pro obsah 4" descr=""/>
          <p:cNvPicPr/>
          <p:nvPr/>
        </p:nvPicPr>
        <p:blipFill>
          <a:blip r:embed="rId3"/>
          <a:stretch/>
        </p:blipFill>
        <p:spPr>
          <a:xfrm>
            <a:off x="1042920" y="4284720"/>
            <a:ext cx="3729240" cy="2097000"/>
          </a:xfrm>
          <a:prstGeom prst="rect">
            <a:avLst/>
          </a:prstGeom>
          <a:ln w="0">
            <a:noFill/>
          </a:ln>
        </p:spPr>
      </p:pic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987440" y="4284720"/>
            <a:ext cx="380052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rvní – přelom 18.-19. stol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987440" y="5213520"/>
            <a:ext cx="380052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ruhá – začátek 20. stol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JDE VŮBEC O REVOLUCI?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35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36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37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4A01-2530-4712-8396-1EBB8ED782DC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24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 HLEDISKA SPOLEČENSKÝCH DOPADŮ PATRNĚ 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ANO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11200" indent="-33228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ynamické přeskupení pracovní síly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11200" indent="-33228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Data je třeba chápat jako jakoukoliv jinou surovinu a obchodní komoditu včetně jejich volného pohybu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11200" indent="-332280">
              <a:lnSpc>
                <a:spcPct val="110000"/>
              </a:lnSpc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Možnost a časem i nutnost on-line komunikace všech entit podél celého hodnotového řetězc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5112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9" name="Obrázek 1" descr="image001"/>
          <p:cNvPicPr/>
          <p:nvPr/>
        </p:nvPicPr>
        <p:blipFill>
          <a:blip r:embed="rId1"/>
          <a:srcRect l="28173" t="22730" r="22252" b="18184"/>
          <a:stretch/>
        </p:blipFill>
        <p:spPr>
          <a:xfrm>
            <a:off x="2916360" y="4149720"/>
            <a:ext cx="25192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JDE VŮBEC O REVOLUCI?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41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42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43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39C-610E-48BF-A90B-F478FF3317BD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pic>
        <p:nvPicPr>
          <p:cNvPr id="1344" name="Obrázek 1" descr="image001"/>
          <p:cNvPicPr/>
          <p:nvPr/>
        </p:nvPicPr>
        <p:blipFill>
          <a:blip r:embed="rId1"/>
          <a:srcRect l="28173" t="22730" r="22252" b="18184"/>
          <a:stretch/>
        </p:blipFill>
        <p:spPr>
          <a:xfrm>
            <a:off x="2087640" y="1603440"/>
            <a:ext cx="49687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b90d1"/>
                </a:solidFill>
                <a:latin typeface="Calibri"/>
              </a:rPr>
              <a:t>PRŮMYSL 4.0: PŘÍLEŽITOST NEBO HROZBA ?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46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47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48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148-F1A8-4CD5-B31B-72E515DFA63E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905040" y="1413000"/>
            <a:ext cx="7734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700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f7f7f"/>
                </a:solidFill>
                <a:latin typeface="Calibri"/>
              </a:rPr>
              <a:t>Firmy mají šanci: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výšit</a:t>
            </a:r>
            <a:r>
              <a:rPr b="1" lang="cs-CZ" sz="2400" spc="-1" strike="noStrike">
                <a:solidFill>
                  <a:srgbClr val="5073a8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c6c6c"/>
                </a:solidFill>
                <a:latin typeface="Calibri"/>
              </a:rPr>
              <a:t>svou</a:t>
            </a:r>
            <a:r>
              <a:rPr b="1" lang="cs-CZ" sz="2400" spc="-1" strike="noStrike">
                <a:solidFill>
                  <a:srgbClr val="5073a8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produkci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(výjimečně skokově, většinou plynule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nížit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 své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áklady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díky optimalizaci veškerých procesů od zdrojů (materiálové, energetické, lidské) přes výrobní a logistické až po servisní, případě inovační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Objevit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ové tržní příležitosti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díky kustomizaci produkc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nížit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 rizika související s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chybovostí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výroby a jejími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výpadky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ZVÝŠIT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 SVOU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KONKURENCESCHOPNOS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1001"/>
              </a:spcBef>
              <a:buClr>
                <a:srgbClr val="2b90d1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JEDNOZNAČNĚ PŘÍLEŽITOST</a:t>
            </a:r>
            <a:endParaRPr b="0" lang="en-US" sz="4000" spc="-1" strike="noStrike">
              <a:solidFill>
                <a:srgbClr val="7f7f7f"/>
              </a:solidFill>
              <a:latin typeface="Calibri"/>
            </a:endParaRPr>
          </a:p>
          <a:p>
            <a:pPr lvl="1" marL="360360" indent="-168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581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b90d1"/>
                </a:solidFill>
                <a:latin typeface="Calibri"/>
              </a:rPr>
              <a:t>PRŮMYSL 4.0: PŘÍLEŽITOST NEBO HROZBA ?</a:t>
            </a:r>
            <a:endParaRPr b="0" lang="en-US" sz="3600" spc="-1" strike="noStrike">
              <a:solidFill>
                <a:srgbClr val="2b90d1"/>
              </a:solidFill>
              <a:latin typeface="Calibri"/>
            </a:endParaRPr>
          </a:p>
        </p:txBody>
      </p:sp>
      <p:sp>
        <p:nvSpPr>
          <p:cNvPr id="1351" name="Zástupný symbol pro datum 3"/>
          <p:cNvSpPr/>
          <p:nvPr/>
        </p:nvSpPr>
        <p:spPr>
          <a:xfrm>
            <a:off x="6264360" y="6483240"/>
            <a:ext cx="21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1.9.2017</a:t>
            </a:r>
            <a:endParaRPr b="0" lang="en-US" sz="7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2" name="Zástupný symbol pro zápatí 4"/>
          <p:cNvSpPr/>
          <p:nvPr/>
        </p:nvSpPr>
        <p:spPr>
          <a:xfrm>
            <a:off x="425520" y="6473880"/>
            <a:ext cx="559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Calibri"/>
              </a:rPr>
              <a:t>PRŮMYSL 4.0 – PŘÍLEŽITOSTI A RIZIKA </a:t>
            </a:r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3" name="Zástupný symbol pro číslo snímku 5"/>
          <p:cNvSpPr/>
          <p:nvPr/>
        </p:nvSpPr>
        <p:spPr>
          <a:xfrm>
            <a:off x="8499600" y="6480000"/>
            <a:ext cx="28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5931-1F16-44FD-857D-5A97B8431D08}" type="slidenum">
              <a:rPr b="0" lang="cs-CZ" sz="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2b90d1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826560" y="1122120"/>
            <a:ext cx="7734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5240" indent="-165240">
              <a:spcBef>
                <a:spcPts val="700"/>
              </a:spcBef>
              <a:buClr>
                <a:srgbClr val="2b90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f7f7f"/>
                </a:solidFill>
                <a:latin typeface="Calibri"/>
              </a:rPr>
              <a:t>Státu hrozí: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338400" indent="-15768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Nepředvídatelné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áklady a výpadky státního rozpočtu</a:t>
            </a:r>
            <a:r>
              <a:rPr b="0" lang="cs-CZ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601"/>
              </a:spcBef>
              <a:buClr>
                <a:srgbClr val="2b90d1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Výpadek na odvodech z příjmů ze závislé prác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601"/>
              </a:spcBef>
              <a:buClr>
                <a:srgbClr val="2b90d1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Potřeba nových investic zdůvodňovaných potřebami průmyslu (často zcela neprávem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601"/>
              </a:spcBef>
              <a:buClr>
                <a:srgbClr val="2b90d1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Nezvládnutí dotačních podpo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38400" indent="-15768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Nové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kybernetické hrozby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38400" indent="-15768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eschopnost komunikace 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s digitálním, mimo jiné i firemním prostředím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338400" indent="-157680">
              <a:spcBef>
                <a:spcPts val="601"/>
              </a:spcBef>
              <a:buClr>
                <a:srgbClr val="2b90d1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Narušen</a:t>
            </a:r>
            <a:r>
              <a:rPr b="1" lang="cs-CZ" sz="2400" spc="-1" strike="noStrike">
                <a:solidFill>
                  <a:srgbClr val="5073a8"/>
                </a:solidFill>
                <a:latin typeface="Calibri"/>
              </a:rPr>
              <a:t>í</a:t>
            </a: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 tradičních </a:t>
            </a:r>
            <a:r>
              <a:rPr b="1" lang="cs-CZ" sz="2400" spc="-1" strike="noStrike">
                <a:solidFill>
                  <a:srgbClr val="0070c0"/>
                </a:solidFill>
                <a:latin typeface="Calibri"/>
              </a:rPr>
              <a:t>sociálních sché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601"/>
              </a:spcBef>
              <a:buClr>
                <a:srgbClr val="2b90d1"/>
              </a:buClr>
              <a:buSzPct val="8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alibri"/>
              </a:rPr>
              <a:t>Zaměstnavatelsko-zaměstnanecké vztahy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950"/>
              </a:spcBef>
              <a:buClr>
                <a:srgbClr val="7f7f7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0000"/>
                </a:solidFill>
                <a:latin typeface="Calibri"/>
              </a:rPr>
              <a:t>SPÍŠE HROZBA?</a:t>
            </a:r>
            <a:endParaRPr b="0" lang="en-US" sz="3800" spc="-1" strike="noStrike">
              <a:solidFill>
                <a:srgbClr val="7f7f7f"/>
              </a:solidFill>
              <a:latin typeface="Calibri"/>
            </a:endParaRPr>
          </a:p>
          <a:p>
            <a:pPr lvl="2" marL="504000" indent="-148680">
              <a:spcBef>
                <a:spcPts val="950"/>
              </a:spcBef>
              <a:buClr>
                <a:srgbClr val="7f7f7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3:58:25Z</dcterms:created>
  <dc:creator>Foom</dc:creator>
  <dc:description/>
  <dc:language>en-US</dc:language>
  <cp:lastModifiedBy>Holoubek Jiří</cp:lastModifiedBy>
  <dcterms:modified xsi:type="dcterms:W3CDTF">2017-09-20T08:02:15Z</dcterms:modified>
  <cp:revision>263</cp:revision>
  <dc:subject/>
  <dc:title>Prezentace aplikace PowerPoint</dc:title>
</cp:coreProperties>
</file>